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AAD-ED7C-402E-B7D8-77617A96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32E-CC29-447A-993E-D6752F84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514-1932-450E-AB14-C263FD75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C89-B11D-4B85-BAC2-E18009EF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4F02-4257-4DBD-84BD-3B7AFA24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CF94-2FAD-492B-961A-68C8A041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D1B6-5C08-4CA2-B0FE-94BD2C03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4DB5-B85E-42AA-8C7C-9DE115D3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93B9-CFDF-4F32-A7ED-E6C4AE4C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2815-E51F-4E78-98EE-4EC78770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E308-E9CC-4A4B-A184-5CA6CFB8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70C-F2AE-42CE-94E0-43114A6D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6B7F-DE2F-49F8-A6BB-3591FD94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2725-C5B4-4471-B3C0-60246893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82B8-510C-4882-B1E7-BC15B2E4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445E-BE8D-4EBC-8F88-BE1FDBCD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D542-56FD-4747-A297-BD4729FF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ECF-7F13-4CA3-8866-9628F83A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584-D3F2-4D88-80C3-8751E800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B97-CABB-40CF-92CB-7AD9B442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640-9D62-41DB-820D-164E998F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470-D7F7-4250-8451-BADDAC48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424-E4D9-4D51-A42F-671D2BD2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680-D9B5-494E-AF69-89B8DD3F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BA15-4982-4F6F-9E96-72F7807C986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DBDC-B810-483C-8E01-645FC720605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hplogo2" descr="logo"/>
          <p:cNvPicPr/>
          <p:nvPr/>
        </p:nvPicPr>
        <p:blipFill>
          <a:blip r:embed="rId2"/>
          <a:stretch/>
        </p:blipFill>
        <p:spPr>
          <a:xfrm>
            <a:off x="2057400" y="1981080"/>
            <a:ext cx="6261120" cy="31831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Siting a Cracker Barrel Restaurant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Team Member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ire Penning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ndon Sh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D Cornel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467160" y="2751120"/>
            <a:ext cx="1982880" cy="1355760"/>
            <a:chOff x="3467160" y="2751120"/>
            <a:chExt cx="1982880" cy="1355760"/>
          </a:xfrm>
        </p:grpSpPr>
        <p:sp>
          <p:nvSpPr>
            <p:cNvPr id="91" name=""/>
            <p:cNvSpPr/>
            <p:nvPr/>
          </p:nvSpPr>
          <p:spPr>
            <a:xfrm>
              <a:off x="3467160" y="27511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467160" y="2751120"/>
              <a:ext cx="1982880" cy="1355760"/>
              <a:chOff x="3467160" y="2751120"/>
              <a:chExt cx="1982880" cy="1355760"/>
            </a:xfrm>
          </p:grpSpPr>
          <p:sp>
            <p:nvSpPr>
              <p:cNvPr id="93" name=""/>
              <p:cNvSpPr/>
              <p:nvPr/>
            </p:nvSpPr>
            <p:spPr>
              <a:xfrm>
                <a:off x="3467160" y="2751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467160" y="2751120"/>
                <a:ext cx="1982880" cy="13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1" lang="en-US" sz="6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838080" y="1919160"/>
          <a:ext cx="8077320" cy="393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919160"/>
                    <a:ext cx="807732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Model For Proposed S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hplogo2" descr="logo"/>
          <p:cNvPicPr/>
          <p:nvPr/>
        </p:nvPicPr>
        <p:blipFill>
          <a:blip r:embed="rId2"/>
          <a:stretch/>
        </p:blipFill>
        <p:spPr>
          <a:xfrm>
            <a:off x="2057400" y="1981080"/>
            <a:ext cx="6261120" cy="3183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Transport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affic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states – 24,190 vpd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ary arteries – 15,000 v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Nearby Att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t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wntown business distr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hplogo2" descr="logo"/>
          <p:cNvPicPr/>
          <p:nvPr/>
        </p:nvPicPr>
        <p:blipFill>
          <a:blip r:embed="rId2"/>
          <a:stretch/>
        </p:blipFill>
        <p:spPr>
          <a:xfrm>
            <a:off x="2057400" y="1981080"/>
            <a:ext cx="6261120" cy="3183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arce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.8 Ac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-59 Interchange at Hwy. 77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hplogo2" descr="logo"/>
          <p:cNvPicPr/>
          <p:nvPr/>
        </p:nvPicPr>
        <p:blipFill>
          <a:blip r:embed="rId2"/>
          <a:stretch/>
        </p:blipFill>
        <p:spPr>
          <a:xfrm>
            <a:off x="2057400" y="1981080"/>
            <a:ext cx="6261120" cy="3183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opul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least 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40,000 pr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60,1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cels completely within radius 28,3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opulation" descr=""/>
          <p:cNvPicPr/>
          <p:nvPr/>
        </p:nvPicPr>
        <p:blipFill>
          <a:blip r:embed="rId7"/>
          <a:stretch/>
        </p:blipFill>
        <p:spPr>
          <a:xfrm>
            <a:off x="-304920" y="0"/>
            <a:ext cx="10515600" cy="81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hplogo2" descr="logo"/>
          <p:cNvPicPr/>
          <p:nvPr/>
        </p:nvPicPr>
        <p:blipFill>
          <a:blip r:embed="rId2"/>
          <a:stretch/>
        </p:blipFill>
        <p:spPr>
          <a:xfrm>
            <a:off x="2057400" y="1981080"/>
            <a:ext cx="6261120" cy="3183120"/>
          </a:xfrm>
          <a:prstGeom prst="rect">
            <a:avLst/>
          </a:prstGeom>
          <a:ln w="0">
            <a:noFill/>
          </a:ln>
        </p:spPr>
      </p:pic>
      <p:pic>
        <p:nvPicPr>
          <p:cNvPr id="111" name="Income" descr=""/>
          <p:cNvPicPr/>
          <p:nvPr/>
        </p:nvPicPr>
        <p:blipFill>
          <a:blip r:embed="rId3"/>
          <a:stretch/>
        </p:blipFill>
        <p:spPr>
          <a:xfrm>
            <a:off x="990720" y="1905120"/>
            <a:ext cx="7086600" cy="547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Incom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7243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erage Per Capita Income - $15,2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12,000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BTest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9067680" cy="7007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71600" y="17524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election below is the site that we chose based on the criteria that were given to us and personal sel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19:14:17Z</dcterms:created>
  <dc:creator>Guest</dc:creator>
  <dc:description/>
  <dc:language>en-US</dc:language>
  <cp:lastModifiedBy>University of North Alabama</cp:lastModifiedBy>
  <dcterms:modified xsi:type="dcterms:W3CDTF">2002-04-16T13:46:42Z</dcterms:modified>
  <cp:revision>7</cp:revision>
  <dc:subject/>
  <dc:title>Citing for Cracker Barrel</dc:title>
</cp:coreProperties>
</file>