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E85-A2C3-4ADC-B90E-82459677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F7B-17B2-4C3C-BF19-489C3F5E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96A-FC7F-4909-B379-ADC9F7A5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9A1-2E5C-4B68-8C88-017469F3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787-ED9D-4CEA-A8A1-AB679B47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882-AACE-4170-B929-2673BC6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1EB-7E0C-4D2D-A2A8-08906B3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B1C-E258-499D-B759-EDFEF10E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F1F-5BB2-4321-BE77-7475FDC0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517-6170-4334-B88E-DB6C22F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532-1DD9-49A1-B365-052A1EB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A82-FEE8-4691-BED6-AF0F23F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3997-D064-4A53-A744-2A7BEA059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838080"/>
            <a:ext cx="6019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to your first flying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Madam Hooch. In front of you there is a school broom, a comet two-six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unt your broom, please click and say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met260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915000" cy="190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9520" y="4952880"/>
            <a:ext cx="3809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sst..” Ron say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red and George say they’re faulty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2480" y="129528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fly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ly4ward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1952640" cy="329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55627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ground Madam Hooch s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 left!” To do so, clic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1066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find yourself flying over Hagrid’s hut. Suddenly you feel very worried about Norber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ly2left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247920" cy="189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7400" y="502920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 right” says Madam Ho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12193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look down on the l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54100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, that’s enough. Come back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ly2rite" descr=""/>
          <p:cNvPicPr/>
          <p:nvPr/>
        </p:nvPicPr>
        <p:blipFill>
          <a:blip r:embed="rId1"/>
          <a:stretch/>
        </p:blipFill>
        <p:spPr>
          <a:xfrm>
            <a:off x="2924280" y="2448000"/>
            <a:ext cx="32954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9907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look down, you can see Ron’s red hair. He’s pointing at you. Clic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lydown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19051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295280"/>
            <a:ext cx="69339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ol! You’re amazing! And you thought you were a muggle. That was WICKE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” says Madam Hooch. “Maybe you could have a place on the school tea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- tell me the three places you flew over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gal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17:15:43Z</dcterms:created>
  <dc:creator>MR ROBERT DILUZIO</dc:creator>
  <dc:description/>
  <dc:language>en-US</dc:language>
  <cp:lastModifiedBy>MR ROBERT DILUZIO</cp:lastModifiedBy>
  <dcterms:modified xsi:type="dcterms:W3CDTF">2001-11-22T17:29:39Z</dcterms:modified>
  <cp:revision>1</cp:revision>
  <dc:subject/>
  <dc:title>No Slide Title</dc:title>
</cp:coreProperties>
</file>