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9F6-ACB6-4B6C-8498-994D0F4A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87A-C093-4250-BCCF-5DF7CE9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20A-45E2-41F9-90CE-886066CB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6F6-92FE-43F6-9691-4850B453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5EE-D1F5-4818-B2B6-CA554979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3AE-5EE6-43E0-A613-0BCA9DC6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DB6-60B4-4A03-8DDD-F48985A6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3F5-163C-4235-B15E-30CCA786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B23-BCF3-43A6-818A-42EE2B1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85F-2DB1-4F37-8E85-2E24BBE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E4C-83EE-4A02-B8A5-CBC4968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570-5F73-4FDA-B9DC-4B130E4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32B9-BCD6-4B21-9440-2C46FACE1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 to Defense against the Dark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Tahoma"/>
              </a:rPr>
              <a:t>Click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common G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9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it has three 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3 yellow dots on it’s head. These are sacred and a boggart cannot cop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at it wears human clot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hants to freeze it’s victims and then they slowly go crazy (cli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mlin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982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066680"/>
            <a:ext cx="76197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your ho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is a s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was walking in the woods when suddenly a creature jumped out before him. It had 3 toes on each foot and 4 yellow dots on it’s forehead. He was mortally afraid as it began to chant. How did he esc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: 2 galleons. If correct, 4 galleons. Why not look at book 3 to help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25:51Z</dcterms:created>
  <dc:creator>MR ROBERT DILUZIO</dc:creator>
  <dc:description/>
  <dc:language>en-US</dc:language>
  <cp:lastModifiedBy>MR ROBERT DILUZIO</cp:lastModifiedBy>
  <dcterms:modified xsi:type="dcterms:W3CDTF">2001-11-21T16:47:36Z</dcterms:modified>
  <cp:revision>2</cp:revision>
  <dc:subject/>
  <dc:title>Welcome to Defense against the Dark Arts</dc:title>
</cp:coreProperties>
</file>