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980-88B9-4646-B993-E12ACDF8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7D8-C2F5-4D70-8445-ED50CD04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E04-415B-4BBC-8424-7742B9C8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09E-908A-44A6-9AE8-AC7CC437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26A-4F46-4B8B-943F-C715075A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918-84D9-42CE-9C5D-FF6AA2E3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63F-A394-45A2-B2CE-127D52D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B0A-F9B2-43ED-8963-A5B8C52D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D87-D0C1-4CB0-9A25-E2CEFFC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74F-9811-4D6C-84BA-7F31D5A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DC7-4C0F-4E5C-B6C8-94086B3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FCB-1408-4DC0-8218-BBA1E7ED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722-7389-46D7-859F-911C40C45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 “Accio sunshi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whilst saying it and the sun appea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 me the colour of the sun and I will reward you 1 galle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162160"/>
            <a:ext cx="38098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17:19:56Z</dcterms:created>
  <dc:creator>MR ROBERT DILUZIO</dc:creator>
  <dc:description/>
  <dc:language>en-US</dc:language>
  <cp:lastModifiedBy>MR ROBERT DILUZIO</cp:lastModifiedBy>
  <dcterms:modified xsi:type="dcterms:W3CDTF">2001-11-19T17:28:17Z</dcterms:modified>
  <cp:revision>1</cp:revision>
  <dc:subject/>
  <dc:title>Lesson 1</dc:title>
</cp:coreProperties>
</file>