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7E8-E6A3-44DC-826E-DCC97911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72D-EC85-40DE-8DEC-92EAEF6D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C67-FE9D-453C-9F87-548D6887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AA2-E2FC-47F9-9415-AF8C9796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CDD-B5F6-407D-A7DF-2DE876E9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FDE-CD47-4087-B9A4-B80FDB0A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472-9BDE-42A6-BCA6-61BB4C6C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397-0D0C-4382-A6B4-C50BA324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277-1247-4C2C-BFAD-B4E2AE1B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951-63E5-40D6-B36A-E98C1DB9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986-19B6-42BB-8B88-2F2C9354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2E1-3B91-4774-BC22-A022EFA3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F49A-FF88-4540-A5C4-C4A8F8E2E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1295280" cy="1092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137160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your wand at this button and picture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t: “Transfigure” And see what happe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 me [:transfiguration3: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16:44:40Z</dcterms:created>
  <dc:creator>MR ROBERT DILUZIO</dc:creator>
  <dc:description/>
  <dc:language>en-US</dc:language>
  <cp:lastModifiedBy>MR ROBERT DILUZIO</cp:lastModifiedBy>
  <dcterms:modified xsi:type="dcterms:W3CDTF">2001-11-22T16:56:56Z</dcterms:modified>
  <cp:revision>1</cp:revision>
  <dc:subject/>
  <dc:title>No Slide Title</dc:title>
</cp:coreProperties>
</file>