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0EE-8974-415E-8350-D0E97A3B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8AA2-1986-40E9-B1E5-008080E2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888-1AAB-4D77-92C7-A1E989B0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ABE3-F38B-445E-AD7E-B9680853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100-04CB-45DE-B389-15271AD1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D6DB-AD82-4CDA-8B7F-A5E80928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4E50-3B22-495C-82AE-7AA670A1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8FBB-0ABE-45C8-BFB1-0F20CA7D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777-73D9-4D80-8840-B1F08F37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8FE2-1823-44E6-8F2F-7A8F8173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7196-D3EF-40C1-9B01-30693B46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FE41-E8B8-4D0D-988C-2869B775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55CE-3398-4EBE-962E-0ABCCFEC4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066680"/>
            <a:ext cx="81532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eebf0"/>
                </a:solidFill>
                <a:latin typeface="Arial"/>
              </a:rPr>
              <a:t>	</a:t>
            </a:r>
            <a:r>
              <a:rPr b="0" lang="en-US" sz="8000" spc="-1" strike="noStrike">
                <a:solidFill>
                  <a:srgbClr val="aeebf0"/>
                </a:solidFill>
                <a:latin typeface="Arial"/>
              </a:rPr>
              <a:t>	</a:t>
            </a:r>
            <a:r>
              <a:rPr b="0" lang="en-US" sz="8000" spc="-1" strike="noStrike">
                <a:solidFill>
                  <a:srgbClr val="aeebf0"/>
                </a:solidFill>
                <a:latin typeface="Arial"/>
              </a:rPr>
              <a:t>{Welcome}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0" spc="-1" strike="noStrike">
                <a:solidFill>
                  <a:srgbClr val="17037b"/>
                </a:solidFill>
                <a:latin typeface="Arial"/>
              </a:rPr>
              <a:t>{Fire…Hehe}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28800" y="4191120"/>
            <a:ext cx="570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aeebf0"/>
                </a:solidFill>
                <a:latin typeface="Arial"/>
              </a:rPr>
              <a:t>{Fire Works}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498680"/>
            <a:ext cx="999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eebf0"/>
                </a:solidFill>
                <a:latin typeface="Arial"/>
              </a:rPr>
              <a:t>{I Have To Much Time}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21337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eebf0"/>
                </a:solidFill>
                <a:latin typeface="Arial"/>
              </a:rPr>
              <a:t>	</a:t>
            </a:r>
            <a:r>
              <a:rPr b="0" lang="en-US" sz="8000" spc="-1" strike="noStrike">
                <a:solidFill>
                  <a:srgbClr val="aeebf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aeebf0"/>
                </a:solidFill>
                <a:latin typeface="Arial"/>
              </a:rPr>
              <a:t>{LOL}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289548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eebf0"/>
                </a:solidFill>
                <a:latin typeface="Arial"/>
              </a:rPr>
              <a:t>{To Etc. Inc.}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98560" y="2149560"/>
            <a:ext cx="77119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17037b"/>
                </a:solidFill>
                <a:latin typeface="Arial"/>
              </a:rPr>
              <a:t> </a:t>
            </a:r>
            <a:r>
              <a:rPr b="0" lang="en-US" sz="6200" spc="-1" strike="noStrike">
                <a:solidFill>
                  <a:srgbClr val="17037b"/>
                </a:solidFill>
                <a:latin typeface="Arial"/>
              </a:rPr>
              <a:t>{Is It Hot In Here}?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17037b"/>
                </a:solidFill>
                <a:latin typeface="Arial"/>
              </a:rPr>
              <a:t> </a:t>
            </a:r>
            <a:r>
              <a:rPr b="0" lang="en-US" sz="6200" spc="-1" strike="noStrike">
                <a:solidFill>
                  <a:srgbClr val="17037b"/>
                </a:solidFill>
                <a:latin typeface="Arial"/>
              </a:rPr>
              <a:t>{Or Is It Just Me}?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94120" y="3040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51460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eebf0"/>
                </a:solidFill>
                <a:latin typeface="Arial"/>
              </a:rPr>
              <a:t>{Too Good}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236232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Need I Say More}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79440" y="1920960"/>
            <a:ext cx="7026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037b"/>
                </a:solidFill>
                <a:latin typeface="Arial"/>
              </a:rPr>
              <a:t>{Exploding Pepsi…What Next}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1905120"/>
            <a:ext cx="831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eebf0"/>
                </a:solidFill>
                <a:latin typeface="Arial"/>
              </a:rPr>
              <a:t>{Lightsabers Too}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92096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aeebf0"/>
                </a:solidFill>
                <a:latin typeface="Arial"/>
              </a:rPr>
              <a:t> </a:t>
            </a:r>
            <a:r>
              <a:rPr b="0" lang="en-US" sz="4500" spc="-1" strike="noStrike">
                <a:solidFill>
                  <a:srgbClr val="aeebf0"/>
                </a:solidFill>
                <a:latin typeface="Arial"/>
              </a:rPr>
              <a:t>{One Way To Make People Move}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55760" y="1252440"/>
            <a:ext cx="645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eebf0"/>
                </a:solidFill>
                <a:latin typeface="Arial"/>
              </a:rPr>
              <a:t>{Which One}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21:35:35Z</dcterms:created>
  <dc:creator> MRDEVOLDER</dc:creator>
  <dc:description/>
  <dc:language>en-US</dc:language>
  <cp:lastModifiedBy> MRDEVOLDER</cp:lastModifiedBy>
  <dcterms:modified xsi:type="dcterms:W3CDTF">2003-12-03T03:15:39Z</dcterms:modified>
  <cp:revision>9</cp:revision>
  <dc:subject/>
  <dc:title>Slide 1</dc:title>
</cp:coreProperties>
</file>