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2390-06A8-4287-B7FB-6D907B118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0CAD-AD35-4EDF-B251-226CDB57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31B6-4D59-4BCC-860E-F2074D10D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0551-74A7-403D-B9E7-9C0116B17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EE68-D472-4BAD-8126-B37BCE18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70C5-D4BF-491A-BCD4-B8462610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CF5C-5492-48DF-8171-946DC298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1116-3090-4B58-B5A8-5F479072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1D19-6C77-4A15-A081-36274D3C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AF34-BCED-4DEA-8182-1AB65A2C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1521-2B9F-4223-BA90-3E27C07B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7F9D-7573-42C0-89C7-D261A902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499B-7317-4785-B5C2-FC9975C00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 Hock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Salut je m`appelle Simon.Je joue au hockey dans les DYNAMOS de Chicoutimi Bantam 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48320" y="2556000"/>
            <a:ext cx="3809880" cy="2965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153280" y="61722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5124" y="3837"/>
                </a:moveTo>
                <a:lnTo>
                  <a:pt x="17700" y="6448"/>
                </a:ln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lnTo>
                  <a:pt x="22087" y="10800"/>
                </a:lnTo>
                <a:lnTo>
                  <a:pt x="20433" y="10800"/>
                </a:lnTo>
                <a:lnTo>
                  <a:pt x="20433" y="17989"/>
                </a:lnTo>
                <a:lnTo>
                  <a:pt x="9815" y="17989"/>
                </a:lnTo>
                <a:lnTo>
                  <a:pt x="9815" y="10800"/>
                </a:lnTo>
                <a:lnTo>
                  <a:pt x="8161" y="10800"/>
                </a:lnTo>
                <a:close/>
              </a:path>
              <a:path fill="darkenLess" w="30248" h="21600">
                <a:moveTo>
                  <a:pt x="17700" y="6448"/>
                </a:move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close/>
              </a:path>
              <a:path fill="darkenLess" w="30248" h="21600">
                <a:moveTo>
                  <a:pt x="14201" y="14299"/>
                </a:moveTo>
                <a:lnTo>
                  <a:pt x="16047" y="14299"/>
                </a:lnTo>
                <a:lnTo>
                  <a:pt x="16047" y="17989"/>
                </a:lnTo>
                <a:lnTo>
                  <a:pt x="20433" y="17989"/>
                </a:lnTo>
                <a:lnTo>
                  <a:pt x="20433" y="10800"/>
                </a:lnTo>
                <a:lnTo>
                  <a:pt x="9815" y="10800"/>
                </a:lnTo>
                <a:lnTo>
                  <a:pt x="9815" y="17989"/>
                </a:lnTo>
                <a:lnTo>
                  <a:pt x="14201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38080" y="43434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 Rê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Mon plus grand rêve est de parler a Wayne Gretzky.Et de jouer une partie de hockey avec l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486400" y="2133720"/>
          <a:ext cx="29988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133720"/>
                    <a:ext cx="2998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>
            <a:hlinkClick r:id="" action="ppaction://hlinkshowjump?jump=previousslide"/>
          </p:cNvPr>
          <p:cNvSpPr/>
          <p:nvPr/>
        </p:nvSpPr>
        <p:spPr>
          <a:xfrm>
            <a:off x="762120" y="60199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720" y="58672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 Joueur Préfér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Mon joueur favorit est de loin le plus grand joueur de tout les temps wayne Gretzk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257800" y="2133720"/>
          <a:ext cx="304812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2133720"/>
                    <a:ext cx="304812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>
            <a:hlinkClick r:id="" action="ppaction://hlinkshowjump?jump=previousslide"/>
          </p:cNvPr>
          <p:cNvSpPr/>
          <p:nvPr/>
        </p:nvSpPr>
        <p:spPr>
          <a:xfrm>
            <a:off x="533520" y="59436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10807"/>
                </a:moveTo>
                <a:lnTo>
                  <a:pt x="17806" y="3801"/>
                </a:lnTo>
                <a:lnTo>
                  <a:pt x="17806" y="1781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58672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 Trophé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Pour moi le plus beau trophée à gagné est la Coupe Stanl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416560" y="1981080"/>
          <a:ext cx="2271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6560" y="1981080"/>
                    <a:ext cx="2271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>
            <a:hlinkClick r:id="" action="ppaction://hlinkshowjump?jump=previousslide"/>
          </p:cNvPr>
          <p:cNvSpPr/>
          <p:nvPr/>
        </p:nvSpPr>
        <p:spPr>
          <a:xfrm>
            <a:off x="609480" y="609588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10800"/>
                </a:moveTo>
                <a:lnTo>
                  <a:pt x="26805" y="3794"/>
                </a:lnTo>
                <a:lnTo>
                  <a:pt x="2680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6961" y="3837"/>
                </a:moveTo>
                <a:lnTo>
                  <a:pt x="19537" y="6448"/>
                </a:lnTo>
                <a:lnTo>
                  <a:pt x="19537" y="4707"/>
                </a:lnTo>
                <a:lnTo>
                  <a:pt x="21313" y="4707"/>
                </a:lnTo>
                <a:lnTo>
                  <a:pt x="21313" y="8224"/>
                </a:lnTo>
                <a:lnTo>
                  <a:pt x="23924" y="10800"/>
                </a:lnTo>
                <a:lnTo>
                  <a:pt x="22270" y="10800"/>
                </a:lnTo>
                <a:lnTo>
                  <a:pt x="22270" y="17989"/>
                </a:lnTo>
                <a:lnTo>
                  <a:pt x="11652" y="17989"/>
                </a:lnTo>
                <a:lnTo>
                  <a:pt x="11652" y="10800"/>
                </a:lnTo>
                <a:lnTo>
                  <a:pt x="9998" y="10800"/>
                </a:lnTo>
                <a:close/>
              </a:path>
              <a:path fill="darkenLess" w="33922" h="21600">
                <a:moveTo>
                  <a:pt x="19537" y="6448"/>
                </a:moveTo>
                <a:lnTo>
                  <a:pt x="19537" y="4707"/>
                </a:lnTo>
                <a:lnTo>
                  <a:pt x="21313" y="4707"/>
                </a:lnTo>
                <a:lnTo>
                  <a:pt x="21313" y="8224"/>
                </a:lnTo>
                <a:close/>
              </a:path>
              <a:path fill="darkenLess" w="33922" h="21600">
                <a:moveTo>
                  <a:pt x="16038" y="14299"/>
                </a:moveTo>
                <a:lnTo>
                  <a:pt x="17884" y="14299"/>
                </a:lnTo>
                <a:lnTo>
                  <a:pt x="17884" y="17989"/>
                </a:lnTo>
                <a:lnTo>
                  <a:pt x="22270" y="17989"/>
                </a:lnTo>
                <a:lnTo>
                  <a:pt x="22270" y="10800"/>
                </a:lnTo>
                <a:lnTo>
                  <a:pt x="11652" y="10800"/>
                </a:lnTo>
                <a:lnTo>
                  <a:pt x="11652" y="17989"/>
                </a:lnTo>
                <a:lnTo>
                  <a:pt x="16038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5:38:33Z</dcterms:created>
  <dc:creator>Poly. Dominique-Racine</dc:creator>
  <dc:description/>
  <dc:language>en-US</dc:language>
  <cp:lastModifiedBy>Poly. Dominique-Racine</cp:lastModifiedBy>
  <dcterms:modified xsi:type="dcterms:W3CDTF">2004-03-26T15:35:09Z</dcterms:modified>
  <cp:revision>10</cp:revision>
  <dc:subject/>
  <dc:title>Le Hockey</dc:title>
</cp:coreProperties>
</file>