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rojctor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F47-F8C2-4DDC-9F3F-D77D59DA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C98-E75A-46A7-9C11-79C01A8E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391-8094-4F4A-A408-E20E6151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4A8-B731-4CEB-91BE-45D26609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CCC-3566-45E5-A634-71A983B5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3C3-8FA1-4CA2-A92B-ED387713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3AE-3801-42F7-880E-7E91287A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EA1-BE08-4A4D-83EF-1E782452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96E-BE05-4A84-991B-E91383B9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EFE-0859-4F88-B5D0-AD2B86B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758-F1CE-43ED-833D-F58E4F5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DE3-69F6-45AC-BFBC-DBF35EC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C2F8-DDCB-43D5-B8C7-9981C4771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ttlefart.wav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ittlefart.wav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rrynette.com/1-UKoutfits.html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attegrond%20Schotland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397188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4080" y="57150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4864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chotl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  <p:sndAc>
      <p:stSnd>
        <p:snd r:embed="rId3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viemore1" descr="Nederlandse pipers Astrid, Eric en Dave geven een optreden in Aviemore (Schotland). Kees kijkt op de achtergrond toe, zomer 2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143000"/>
            <a:ext cx="681840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0" y="548640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en typisch schots iets is de doedelz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immyweb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133720"/>
            <a:ext cx="1936800" cy="4267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812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hte schotse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berdour17t" descr="Aberdour Castle:The tower"/>
          <p:cNvPicPr/>
          <p:nvPr/>
        </p:nvPicPr>
        <p:blipFill>
          <a:blip r:embed="rId1"/>
          <a:stretch/>
        </p:blipFill>
        <p:spPr>
          <a:xfrm>
            <a:off x="1600200" y="182880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38280" y="609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chotland zijn veel kast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  <p:sndAc>
      <p:stSnd>
        <p:snd r:embed="rId2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011320" y="1569960"/>
            <a:ext cx="5121360" cy="3568680"/>
            <a:chOff x="2011320" y="1569960"/>
            <a:chExt cx="5121360" cy="3568680"/>
          </a:xfrm>
        </p:grpSpPr>
        <p:sp>
          <p:nvSpPr>
            <p:cNvPr id="52" name=""/>
            <p:cNvSpPr/>
            <p:nvPr/>
          </p:nvSpPr>
          <p:spPr>
            <a:xfrm>
              <a:off x="2011320" y="1569960"/>
              <a:ext cx="512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1320" y="1569960"/>
              <a:ext cx="480708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nl-NL" sz="218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nessie3" descr=""/>
          <p:cNvPicPr/>
          <p:nvPr/>
        </p:nvPicPr>
        <p:blipFill>
          <a:blip r:embed="rId1"/>
          <a:stretch/>
        </p:blipFill>
        <p:spPr>
          <a:xfrm>
            <a:off x="1371600" y="646200"/>
            <a:ext cx="5943600" cy="4502160"/>
          </a:xfrm>
          <a:prstGeom prst="rect">
            <a:avLst/>
          </a:prstGeom>
          <a:ln w="76320">
            <a:solidFill>
              <a:srgbClr val="ff6600"/>
            </a:solidFill>
            <a:prstDash val="sysDot"/>
            <a:miter/>
          </a:ln>
        </p:spPr>
      </p:pic>
      <p:sp>
        <p:nvSpPr>
          <p:cNvPr id="55" name=""/>
          <p:cNvSpPr/>
          <p:nvPr/>
        </p:nvSpPr>
        <p:spPr>
          <a:xfrm>
            <a:off x="1279440" y="537516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5562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it is een foto waarvan veel mensen dachten dat er een zeemonster op stond (haha! Wat een sukkels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  <p:sndAc>
      <p:stSnd>
        <p:snd r:embed="rId2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allace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857680" cy="4264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5638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chotland heeft een hele interessante geschiedenis met helden en grote veldslagen waaronder William Wal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voetbal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108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5000">
    <p:random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9:06:13Z</dcterms:created>
  <dc:creator>Montessori College</dc:creator>
  <dc:description/>
  <dc:language>en-US</dc:language>
  <cp:lastModifiedBy>Montessori College</cp:lastModifiedBy>
  <dcterms:modified xsi:type="dcterms:W3CDTF">2004-06-16T09:45:09Z</dcterms:modified>
  <cp:revision>5</cp:revision>
  <dc:subject/>
  <dc:title>PowerPoint-presentatie</dc:title>
</cp:coreProperties>
</file>