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B0EF-3233-4C64-890D-6482BDAD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8C32-68A6-42BB-B4D5-E0690114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A9D-925F-48D2-8FC0-D6536E68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C9F9-1756-451D-AB0E-A47D59A1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3C5F-1632-4898-B454-EA6F4137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E77A-5275-467D-84F3-4C5F9522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2CA7-16BC-4E37-903C-8F6E3DC8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28C7-A493-4D9A-97D8-F8F08B98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B576-6618-4A2A-9346-11A10165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8AC9-1372-4755-A53F-BB87636E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CA7C-8BD3-49A9-A917-94167472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66F6-5D32-4D67-8800-1A7D293F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9E88-FD6A-41AC-B445-E6ABE1A1E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achine%20&#224;%20&#233;crire.wav" TargetMode="External"/><Relationship Id="rId2" Type="http://schemas.microsoft.com/office/2007/relationships/media" Target="file:///tmp/home/.config/libreoffice/4/user/gallery/Machine%20&#224;%20&#233;crire.wav" TargetMode="External"/><Relationship Id="rId3" Type="http://schemas.openxmlformats.org/officeDocument/2006/relationships/image" Target="../media/image6.png"/><Relationship Id="rId4" Type="http://schemas.openxmlformats.org/officeDocument/2006/relationships/audio" Target="file:///tmp/home/.config/libreoffice/4/user/gallery/CARILLON.WAV" TargetMode="External"/><Relationship Id="rId5" Type="http://schemas.microsoft.com/office/2007/relationships/media" Target="file:///tmp/home/.config/libreoffice/4/user/gallery/CARILLON.WAV" TargetMode="External"/><Relationship Id="rId6" Type="http://schemas.openxmlformats.org/officeDocument/2006/relationships/image" Target="../media/image6.png"/><Relationship Id="rId7" Type="http://schemas.openxmlformats.org/officeDocument/2006/relationships/audio" Target="file:///tmp/home/.config/libreoffice/4/user/gallery/BRAVO.WAV" TargetMode="External"/><Relationship Id="rId8" Type="http://schemas.microsoft.com/office/2007/relationships/media" Target="file:///tmp/home/.config/libreoffice/4/user/gallery/BRAVO.WAV" TargetMode="Externa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angelfire.com/ab7/motocross1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am snow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njour la Team Snowboard est un regroupement de jeune qui font de la planche a nei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tte équipe est constitué de 4 jeu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48320" y="2819520"/>
            <a:ext cx="4267080" cy="1606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895480" y="914400"/>
            <a:ext cx="3505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ar Steven Trembla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site a été créé quand 4 jeunes avait rien a faire et qu’il on décider de faire un site de eux en planche a nei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tte Team de snowboard est constituer de 4 memb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2476440"/>
            <a:ext cx="4190760" cy="3436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276720" y="304920"/>
            <a:ext cx="3124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Le Si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5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 y a une section photo avec jump , slide et des pitc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 cette photo , je suis en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48320" y="2475000"/>
            <a:ext cx="4038480" cy="3313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895480" y="609480"/>
            <a:ext cx="2971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Les Photo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 membres de la team on tourner un film mes malheureusement le format nes pas compatible avec Power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ors je vous présente des extraits de ce fi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971800" y="228600"/>
            <a:ext cx="37339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es Vide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248520" y="1066680"/>
            <a:ext cx="2590560" cy="2121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3657600" y="3048120"/>
            <a:ext cx="2438280" cy="199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6324480" y="4419720"/>
            <a:ext cx="25909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1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ur terminer , la saison est fini , mais l ’année prochaine on va revenir en force pis la on va se péter la babou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971800" y="304920"/>
            <a:ext cx="3657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Finalemen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27432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8406"/>
                </a:moveTo>
                <a:lnTo>
                  <a:pt x="8227" y="8406"/>
                </a:lnTo>
                <a:lnTo>
                  <a:pt x="12649" y="3794"/>
                </a:lnTo>
                <a:lnTo>
                  <a:pt x="12649" y="17806"/>
                </a:lnTo>
                <a:lnTo>
                  <a:pt x="8227" y="13194"/>
                </a:lnTo>
                <a:lnTo>
                  <a:pt x="3797" y="13194"/>
                </a:lnTo>
                <a:close/>
              </a:path>
              <a:path fill="darken" w="21607" h="21600">
                <a:moveTo>
                  <a:pt x="14303" y="10800"/>
                </a:moveTo>
                <a:lnTo>
                  <a:pt x="17810" y="10800"/>
                </a:lnTo>
              </a:path>
              <a:path fill="darken" w="21607" h="21600">
                <a:moveTo>
                  <a:pt x="14303" y="8406"/>
                </a:moveTo>
                <a:lnTo>
                  <a:pt x="17810" y="5639"/>
                </a:lnTo>
              </a:path>
              <a:path fill="darken" w="21607" h="21600">
                <a:moveTo>
                  <a:pt x="14303" y="13194"/>
                </a:moveTo>
                <a:lnTo>
                  <a:pt x="17810" y="15961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"/>
          </p:cNvPr>
          <p:cNvSpPr/>
          <p:nvPr/>
        </p:nvSpPr>
        <p:spPr>
          <a:xfrm>
            <a:off x="5257800" y="4191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162920" y="3962520"/>
            <a:ext cx="15904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usiqu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495680" y="54100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revenir a la pa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6:16:17Z</dcterms:created>
  <dc:creator>etu367</dc:creator>
  <dc:description/>
  <dc:language>en-US</dc:language>
  <cp:lastModifiedBy>Poly. Dominique-Racine</cp:lastModifiedBy>
  <dcterms:modified xsi:type="dcterms:W3CDTF">2004-04-15T14:18:58Z</dcterms:modified>
  <cp:revision>11</cp:revision>
  <dc:subject/>
  <dc:title>Team snowboard</dc:title>
</cp:coreProperties>
</file>